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1242720"/>
            <a:ext cx="447012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82960"/>
            <a:ext cx="544860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EC3D-116C-46DE-B126-2263DC526CB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68560" y="1243080"/>
            <a:ext cx="4470120" cy="33526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8960" y="4782960"/>
            <a:ext cx="54486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スライド番号プレースホルダー 3"/>
          <p:cNvSpPr/>
          <p:nvPr/>
        </p:nvSpPr>
        <p:spPr>
          <a:xfrm>
            <a:off x="3854520" y="9441000"/>
            <a:ext cx="29509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1B3-799D-459C-BFB4-3600405B42A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CAE-6C8F-4B5D-9926-D63F01FF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D4D-4CC3-4BBD-A5EF-FA8CF1C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5D7-C63A-4103-868E-A1C829D3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656-4F93-4C94-A651-33D7EDA6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3D9-25C7-4EA2-A4CE-4A85A1D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44E-193B-476F-AD1D-5AB04D4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CFB-54E8-413E-868B-493F2DD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C46-BF70-4BC1-8A69-1521CD9B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174-99D0-47D9-9840-294C93B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A0E-B494-4F27-88E3-38C927E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902-DEBE-4C76-AF01-A3662A3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C54-03AA-479F-B87E-86CB56D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B0A-ED10-46AD-910A-374DE47C5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7"/>
          <p:cNvSpPr/>
          <p:nvPr/>
        </p:nvSpPr>
        <p:spPr>
          <a:xfrm>
            <a:off x="233640" y="5445000"/>
            <a:ext cx="884304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ementary Figure 1  ESI positive spectra of brexpiprazole and its metabolite, M2 (DM-34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-1: Full scan mass spectrum of brexpiprazole; (A)-2: Product ion spectrum of brexpipraz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)-1: Full scan mass spectrum of M2; (B)-2: Product ion spectrum of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al analysis was conducted using the 4000QTRAP LC-MS/MS system (SCIEX) equipped with an electrospray ionization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gment ions, such as those originating from the piperazine ring, are just structures proposed from the ion m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osed molecular formula of fragment ion with reference by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kkar and Kate (2019) 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/z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9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273: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61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1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6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8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4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8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図 1" descr=""/>
          <p:cNvPicPr/>
          <p:nvPr/>
        </p:nvPicPr>
        <p:blipFill>
          <a:blip r:embed="rId1"/>
          <a:stretch/>
        </p:blipFill>
        <p:spPr>
          <a:xfrm>
            <a:off x="-36360" y="3168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テキスト ボックス 7"/>
          <p:cNvSpPr/>
          <p:nvPr/>
        </p:nvSpPr>
        <p:spPr>
          <a:xfrm>
            <a:off x="100080" y="5397480"/>
            <a:ext cx="894240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ementary Figure 2  ESI positive spectra of M3 and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-1: Full scan mass spectrum of M3; (A)-2: Product ion spectrum of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)-1: Full scan mass spectrum of M4; (B)-2: Product ion spectrum of M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al analysis was conducted using the 4000QTRAP LC-MS/MS system (SCIEX) equipped with an electrospray ionization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gment ions, such as those originating from the piperazine ring, are just structures proposed from the ion m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osed molecular formula of fragment ion with reference by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kkar and Kate (2019)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/z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5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174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147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134: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図 1" descr=""/>
          <p:cNvPicPr/>
          <p:nvPr/>
        </p:nvPicPr>
        <p:blipFill>
          <a:blip r:embed="rId1"/>
          <a:stretch/>
        </p:blipFill>
        <p:spPr>
          <a:xfrm>
            <a:off x="122400" y="60480"/>
            <a:ext cx="88707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7"/>
          <p:cNvSpPr/>
          <p:nvPr/>
        </p:nvSpPr>
        <p:spPr>
          <a:xfrm>
            <a:off x="157680" y="5373720"/>
            <a:ext cx="884304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ementary Figure 3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I positive spectra of M5 and 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-1: Full scan mass spectrum of M5; (A)-2: Product ion spectrum of M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)-1: Full scan mass spectrum of M6; (B)-2: Product ion spectrum of M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al analysis was conducted using the 4000QTRAP LC-MS/MS system (SCIEX) equipped with an electrospray ionization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gment ions, such as those originating from the piperazine ring, are just structures proposed from the ion m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osed molecular formula of fragment ion with reference by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kkar and Kate (2019)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/z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6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6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62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4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図 3" descr=""/>
          <p:cNvPicPr/>
          <p:nvPr/>
        </p:nvPicPr>
        <p:blipFill>
          <a:blip r:embed="rId1"/>
          <a:stretch/>
        </p:blipFill>
        <p:spPr>
          <a:xfrm>
            <a:off x="98280" y="0"/>
            <a:ext cx="89377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テキスト ボックス 7"/>
          <p:cNvSpPr/>
          <p:nvPr/>
        </p:nvSpPr>
        <p:spPr>
          <a:xfrm>
            <a:off x="242640" y="5672160"/>
            <a:ext cx="88430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ementary Figure 4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I positive spectra of M7 and M7-Glucuron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-1: Full scan mass spectrum of M7; (A)-2: Product ion spectrum of M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)-1: Full scan mass spectrum of M7-Glucuronide; (B)-2: Product ion spectrum of M7-Glucuron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al analysis was conducted using the 4000QTRAP LC-MS/MS system (SCIEX) equipped with an electrospray ionization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osed molecular formula of fragment ion with reference by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kkar and Kate (2019)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/z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9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図 3" descr=""/>
          <p:cNvPicPr/>
          <p:nvPr/>
        </p:nvPicPr>
        <p:blipFill>
          <a:blip r:embed="rId1"/>
          <a:stretch/>
        </p:blipFill>
        <p:spPr>
          <a:xfrm>
            <a:off x="20520" y="115920"/>
            <a:ext cx="90345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テキスト ボックス 7"/>
          <p:cNvSpPr/>
          <p:nvPr/>
        </p:nvSpPr>
        <p:spPr>
          <a:xfrm>
            <a:off x="171360" y="5540400"/>
            <a:ext cx="896616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ementary Figure 5  ESI positive spectra of metabolite in monkey plasma and synthesize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-1: Full scan mass spectrum of metabolite in monkey plasma; (A)-2: Product ion of metabolite in monkey 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)-1: Full scan mass spectrum of synthesiz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xide; (B)-2: Product ion spectrum of synthesiz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al analysis was conducted using the 4000QTRAP LC-MS/MS system (SCIEX) equipped with an electrospray ionization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osed molecular formula of fragment ion with reference by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kkar and Kate (2019)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/z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9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73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ja-JP" sz="1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1: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図 3" descr=""/>
          <p:cNvPicPr/>
          <p:nvPr/>
        </p:nvPicPr>
        <p:blipFill>
          <a:blip r:embed="rId1"/>
          <a:stretch/>
        </p:blipFill>
        <p:spPr>
          <a:xfrm>
            <a:off x="-28440" y="90360"/>
            <a:ext cx="9126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8:18:17Z</dcterms:created>
  <dc:creator>Katsunori Sasahara</dc:creator>
  <dc:description/>
  <dc:language>en-US</dc:language>
  <cp:lastModifiedBy>Lane</cp:lastModifiedBy>
  <cp:lastPrinted>2021-01-27T02:05:03Z</cp:lastPrinted>
  <dcterms:modified xsi:type="dcterms:W3CDTF">2021-02-22T03:05:07Z</dcterms:modified>
  <cp:revision>403</cp:revision>
  <dc:subject/>
  <dc:title>PowerPoint プレゼンテーション</dc:title>
</cp:coreProperties>
</file>