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9723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1F98-9036-491B-B99E-1E6EF573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561960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E8D-F2E9-4E29-BA0A-EBD550F1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4011-030D-4A46-82F5-230740DB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BCA-2BCC-4647-B77C-9D35B65D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215-8ECB-4E98-8465-7ED9C491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13C-E118-4057-8602-8C764FAD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F4D4-E051-4E23-808D-D7BD3295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1C8F-9098-43B5-A523-EF6C72D7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90600"/>
            <a:ext cx="8231040" cy="75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CE21-10B9-48ED-975D-5E907696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B63-29E5-49C5-A1CD-5698A205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359-A89F-4061-81D7-AF908F83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8894-2695-4224-B5B5-60D687A1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8850240"/>
            <a:ext cx="21337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8850240"/>
            <a:ext cx="289404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8850240"/>
            <a:ext cx="21333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4FEB-BE6A-4245-8ECD-64A0483C2E8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6090" t="19298" r="40248" b="15778"/>
          <a:stretch/>
        </p:blipFill>
        <p:spPr>
          <a:xfrm>
            <a:off x="2449440" y="2617920"/>
            <a:ext cx="2160720" cy="210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16090" t="19296" r="40248" b="15778"/>
          <a:stretch/>
        </p:blipFill>
        <p:spPr>
          <a:xfrm>
            <a:off x="252360" y="2617920"/>
            <a:ext cx="2160720" cy="210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16090" t="19298" r="40248" b="15778"/>
          <a:stretch/>
        </p:blipFill>
        <p:spPr>
          <a:xfrm>
            <a:off x="4646520" y="2617920"/>
            <a:ext cx="2160720" cy="21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16097" t="19298" r="40248" b="15778"/>
          <a:stretch/>
        </p:blipFill>
        <p:spPr>
          <a:xfrm>
            <a:off x="6334200" y="4251240"/>
            <a:ext cx="431640" cy="419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rcRect l="20056" t="58981" r="75978" b="35332"/>
          <a:stretch/>
        </p:blipFill>
        <p:spPr>
          <a:xfrm>
            <a:off x="4646520" y="2633760"/>
            <a:ext cx="432000" cy="406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45080" y="2608200"/>
            <a:ext cx="43164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4480" y="3904200"/>
            <a:ext cx="124920" cy="72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81560" y="3889800"/>
            <a:ext cx="124920" cy="72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65320" y="3895200"/>
            <a:ext cx="151560" cy="58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392040"/>
            <a:ext cx="6554520" cy="187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字方塊 26"/>
          <p:cNvSpPr/>
          <p:nvPr/>
        </p:nvSpPr>
        <p:spPr>
          <a:xfrm>
            <a:off x="2550960" y="384120"/>
            <a:ext cx="20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PKH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字方塊 26"/>
          <p:cNvSpPr/>
          <p:nvPr/>
        </p:nvSpPr>
        <p:spPr>
          <a:xfrm>
            <a:off x="246240" y="384120"/>
            <a:ext cx="20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ff00"/>
                </a:solidFill>
                <a:latin typeface="Arial"/>
              </a:rPr>
              <a:t>Endos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字方塊 26"/>
          <p:cNvSpPr/>
          <p:nvPr/>
        </p:nvSpPr>
        <p:spPr>
          <a:xfrm>
            <a:off x="4718160" y="384120"/>
            <a:ext cx="20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ff00"/>
                </a:solidFill>
                <a:latin typeface="Arial"/>
              </a:rPr>
              <a:t>Endosome</a:t>
            </a:r>
            <a:r>
              <a:rPr b="0" lang="zh-TW" sz="9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9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zh-TW" sz="900" spc="-1" strike="noStrike">
                <a:solidFill>
                  <a:srgbClr val="ff0000"/>
                </a:solidFill>
                <a:latin typeface="Arial"/>
              </a:rPr>
              <a:t>PKH26</a:t>
            </a:r>
            <a:r>
              <a:rPr b="0" lang="zh-TW" sz="9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zh-TW" sz="900" spc="-1" strike="noStrike">
                <a:solidFill>
                  <a:srgbClr val="3366ff"/>
                </a:solidFill>
                <a:latin typeface="Arial"/>
              </a:rPr>
              <a:t>D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160" y="2620800"/>
            <a:ext cx="54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AB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34200" y="-34920"/>
            <a:ext cx="31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4"/>
          <p:cNvSpPr/>
          <p:nvPr/>
        </p:nvSpPr>
        <p:spPr>
          <a:xfrm>
            <a:off x="6879240" y="0"/>
            <a:ext cx="31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70520" y="2629080"/>
            <a:ext cx="47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EA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46520" y="2629080"/>
            <a:ext cx="54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B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6014880" y="154908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Percentage asymmetric PKH26 vesic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associated with endoso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380360" y="539640"/>
          <a:ext cx="1512720" cy="2233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80360" y="539640"/>
                    <a:ext cx="1512720" cy="22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222680" y="550800"/>
            <a:ext cx="37260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66920" y="757080"/>
            <a:ext cx="117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29 parental cel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8120" y="4931640"/>
            <a:ext cx="8940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Supplementary Figure 2. The association and colocalization of endosome markers with asymmetrically distributed PKH26 vesicles in dividing HT29 parental cells. 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The immunofluorescent pictures for showing the association of asymmetrical PKH26 vesicles and endosome markers in HT29 cells. PKH26 dye, red; endosome markers (EEA1 and RAB11), green; DNA, blue; Scale bar=5μm. Arrows indicate the association or colocolization. Insert: magnified images indicated by yellow arrows (left top) and DIC pictures for showing paired cells (bottom right).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The quantification result of association of asymmetrical PKH26 vesicles with indicated endosome markers in HT29 cells. Data represent mean ± S.E.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線接點 18"/>
          <p:cNvSpPr/>
          <p:nvPr/>
        </p:nvSpPr>
        <p:spPr>
          <a:xfrm>
            <a:off x="2554200" y="4599000"/>
            <a:ext cx="362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線接點 18"/>
          <p:cNvSpPr/>
          <p:nvPr/>
        </p:nvSpPr>
        <p:spPr>
          <a:xfrm>
            <a:off x="324000" y="4599000"/>
            <a:ext cx="361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線接點 18"/>
          <p:cNvSpPr/>
          <p:nvPr/>
        </p:nvSpPr>
        <p:spPr>
          <a:xfrm>
            <a:off x="4714920" y="4599000"/>
            <a:ext cx="361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8"/>
          <a:srcRect l="16652" t="7307" r="38060" b="9906"/>
          <a:stretch/>
        </p:blipFill>
        <p:spPr>
          <a:xfrm>
            <a:off x="254160" y="612720"/>
            <a:ext cx="2158920" cy="1979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rcRect l="16652" t="7307" r="38060" b="9906"/>
          <a:stretch/>
        </p:blipFill>
        <p:spPr>
          <a:xfrm>
            <a:off x="2449440" y="612720"/>
            <a:ext cx="2158920" cy="197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rcRect l="16652" t="7307" r="38060" b="9906"/>
          <a:stretch/>
        </p:blipFill>
        <p:spPr>
          <a:xfrm>
            <a:off x="4645080" y="612720"/>
            <a:ext cx="2160360" cy="1982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rcRect l="16652" t="7307" r="38060" b="9906"/>
          <a:stretch/>
        </p:blipFill>
        <p:spPr>
          <a:xfrm>
            <a:off x="6337440" y="2154240"/>
            <a:ext cx="430200" cy="395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764320" y="831960"/>
            <a:ext cx="71280" cy="144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505480" y="1655280"/>
            <a:ext cx="14292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65440" y="828720"/>
            <a:ext cx="71640" cy="144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78080" y="843120"/>
            <a:ext cx="72720" cy="144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8720" y="828720"/>
            <a:ext cx="14436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92560" y="828720"/>
            <a:ext cx="14436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828720"/>
            <a:ext cx="14436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327480" y="1655280"/>
            <a:ext cx="14292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116000" y="1652760"/>
            <a:ext cx="14292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2"/>
          <a:srcRect l="40289" t="21339" r="56691" b="72653"/>
          <a:stretch/>
        </p:blipFill>
        <p:spPr>
          <a:xfrm>
            <a:off x="4645080" y="61128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45080" y="611280"/>
            <a:ext cx="43164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線接點 18"/>
          <p:cNvSpPr/>
          <p:nvPr/>
        </p:nvSpPr>
        <p:spPr>
          <a:xfrm>
            <a:off x="2554200" y="2484360"/>
            <a:ext cx="362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線接點 18"/>
          <p:cNvSpPr/>
          <p:nvPr/>
        </p:nvSpPr>
        <p:spPr>
          <a:xfrm>
            <a:off x="324000" y="2484360"/>
            <a:ext cx="361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線接點 18"/>
          <p:cNvSpPr/>
          <p:nvPr/>
        </p:nvSpPr>
        <p:spPr>
          <a:xfrm>
            <a:off x="4714920" y="2484360"/>
            <a:ext cx="361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520" y="600120"/>
            <a:ext cx="47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EA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0T13:35:00Z</dcterms:created>
  <dc:creator>WL</dc:creator>
  <dc:description/>
  <dc:language>en-US</dc:language>
  <cp:lastModifiedBy>WL</cp:lastModifiedBy>
  <dcterms:modified xsi:type="dcterms:W3CDTF">2016-07-21T09:54:30Z</dcterms:modified>
  <cp:revision>347</cp:revision>
  <dc:subject/>
  <dc:title>投影片 1</dc:title>
</cp:coreProperties>
</file>