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97234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CF62-E20D-4316-962B-2E17C286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823104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5619600"/>
            <a:ext cx="823104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CD99-0254-4A38-A935-A19375B6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561960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561960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E7D6-A1C1-4E5B-B8C0-6B58E695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226836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226836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561960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561960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561960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2139-0B4E-4D31-BA8C-C3EAA9A0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68360"/>
            <a:ext cx="8231040" cy="64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12B3-CA02-4833-B372-FF593D02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823104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8A7B-45BD-44B9-94AC-E9B23CF3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5659-1374-4C67-9D60-3C84CC4B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E972-311D-43D2-A06A-9130113A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90600"/>
            <a:ext cx="8231040" cy="75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810C-0103-4A93-969D-EF892FFC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561960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292D-F61B-42FE-B640-1549F4EB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561960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8006-CE29-4485-9ABA-CB7C7163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5619600"/>
            <a:ext cx="823104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8454-77CB-4639-9305-0BD006C3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68360"/>
            <a:ext cx="823104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8850240"/>
            <a:ext cx="21337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520" y="8850240"/>
            <a:ext cx="289404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8850240"/>
            <a:ext cx="21333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F522-0517-480C-8577-BF8B802511B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181080"/>
            <a:ext cx="351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0160" y="555480"/>
          <a:ext cx="1289160" cy="15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555480"/>
                    <a:ext cx="128916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Text Box 146"/>
          <p:cNvSpPr/>
          <p:nvPr/>
        </p:nvSpPr>
        <p:spPr>
          <a:xfrm rot="16200000">
            <a:off x="10080" y="1216440"/>
            <a:ext cx="97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centage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41"/>
          <p:cNvSpPr/>
          <p:nvPr/>
        </p:nvSpPr>
        <p:spPr>
          <a:xfrm>
            <a:off x="537480" y="555480"/>
            <a:ext cx="3726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85320" y="484200"/>
            <a:ext cx="95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HT29 SDCS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21680" y="2046240"/>
            <a:ext cx="30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Z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33880" y="2046240"/>
            <a:ext cx="50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146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087640" y="690480"/>
            <a:ext cx="827280" cy="326520"/>
            <a:chOff x="2087640" y="690480"/>
            <a:chExt cx="827280" cy="326520"/>
          </a:xfrm>
        </p:grpSpPr>
        <p:sp>
          <p:nvSpPr>
            <p:cNvPr id="50" name="Text Box 161"/>
            <p:cNvSpPr/>
            <p:nvPr/>
          </p:nvSpPr>
          <p:spPr>
            <a:xfrm>
              <a:off x="2174760" y="690480"/>
              <a:ext cx="74016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Arial"/>
                </a:rPr>
                <a:t>PKH-Sy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Arial"/>
                </a:rPr>
                <a:t>PKH-Asy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5"/>
            <p:cNvSpPr/>
            <p:nvPr/>
          </p:nvSpPr>
          <p:spPr>
            <a:xfrm>
              <a:off x="2087640" y="728640"/>
              <a:ext cx="144720" cy="85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36"/>
            <p:cNvSpPr/>
            <p:nvPr/>
          </p:nvSpPr>
          <p:spPr>
            <a:xfrm>
              <a:off x="2089800" y="866520"/>
              <a:ext cx="144360" cy="85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5332320" y="181080"/>
            <a:ext cx="351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797440" y="539640"/>
          <a:ext cx="3095640" cy="158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7440" y="539640"/>
                    <a:ext cx="309564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5535000" y="614520"/>
            <a:ext cx="3409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1200" y="2052720"/>
            <a:ext cx="47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D4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34160" y="2052720"/>
            <a:ext cx="47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GR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05840" y="2052720"/>
            <a:ext cx="57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CN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58880" y="20527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R-146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1"/>
          <p:cNvSpPr/>
          <p:nvPr/>
        </p:nvSpPr>
        <p:spPr>
          <a:xfrm>
            <a:off x="6985800" y="325440"/>
            <a:ext cx="15858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HCT15 SDCSCs-Ve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HCT15 SDCSCs-Numb(F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35"/>
          <p:cNvSpPr/>
          <p:nvPr/>
        </p:nvSpPr>
        <p:spPr>
          <a:xfrm>
            <a:off x="6875640" y="388800"/>
            <a:ext cx="144360" cy="86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36"/>
          <p:cNvSpPr/>
          <p:nvPr/>
        </p:nvSpPr>
        <p:spPr>
          <a:xfrm>
            <a:off x="6875640" y="531720"/>
            <a:ext cx="144360" cy="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78"/>
          <p:cNvSpPr/>
          <p:nvPr/>
        </p:nvSpPr>
        <p:spPr>
          <a:xfrm>
            <a:off x="6328080" y="1596960"/>
            <a:ext cx="26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8"/>
          <p:cNvSpPr/>
          <p:nvPr/>
        </p:nvSpPr>
        <p:spPr>
          <a:xfrm>
            <a:off x="6951960" y="1703520"/>
            <a:ext cx="26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8"/>
          <p:cNvSpPr/>
          <p:nvPr/>
        </p:nvSpPr>
        <p:spPr>
          <a:xfrm>
            <a:off x="7577280" y="134136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8"/>
          <p:cNvSpPr/>
          <p:nvPr/>
        </p:nvSpPr>
        <p:spPr>
          <a:xfrm>
            <a:off x="8199720" y="129528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4854600" y="1248120"/>
            <a:ext cx="1186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ative expre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55880" y="181080"/>
            <a:ext cx="351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184400" y="698400"/>
            <a:ext cx="502920" cy="231120"/>
            <a:chOff x="1184400" y="698400"/>
            <a:chExt cx="502920" cy="231120"/>
          </a:xfrm>
        </p:grpSpPr>
        <p:sp>
          <p:nvSpPr>
            <p:cNvPr id="71" name="Text Box 178"/>
            <p:cNvSpPr/>
            <p:nvPr/>
          </p:nvSpPr>
          <p:spPr>
            <a:xfrm>
              <a:off x="1257840" y="698400"/>
              <a:ext cx="313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Arial"/>
                </a:rPr>
                <a:t>***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82"/>
            <p:cNvSpPr/>
            <p:nvPr/>
          </p:nvSpPr>
          <p:spPr>
            <a:xfrm>
              <a:off x="1184400" y="81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83"/>
            <p:cNvSpPr/>
            <p:nvPr/>
          </p:nvSpPr>
          <p:spPr>
            <a:xfrm>
              <a:off x="1687320" y="809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84400" y="8589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3639960" y="533520"/>
          <a:ext cx="1292400" cy="158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39960" y="533520"/>
                    <a:ext cx="129240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3819600" y="204948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62480" y="2049480"/>
            <a:ext cx="2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37920" y="569880"/>
            <a:ext cx="37260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2394720" y="121608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Percentage of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Numb-PKH</a:t>
            </a:r>
            <a:r>
              <a:rPr b="0" lang="zh-TW" sz="900" spc="-1" strike="noStrike" baseline="30000">
                <a:solidFill>
                  <a:srgbClr val="000000"/>
                </a:solidFill>
                <a:latin typeface="Arial"/>
              </a:rPr>
              <a:t>Dim</a:t>
            </a: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 vesicle lo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09440" y="32544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HCT15 SDCS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Numb(F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36360" y="2484360"/>
            <a:ext cx="91454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Supplementary Figure 3. Characterization of miR-146a-5p knocked down or Numb-restored SDCSC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 The percentage of PKH26 vesicle asymmetry/symmetry in stable HT29 SDCSCs receiving scramble (Zc) or shRNA targeting miR-146a-5p (Z146a). PKH-Sym, symmetric segregation of PKH26-vesicles. PKH-Asym, asymmetric segregation of PKH26-vesicles. n (total counted cells over 2 independent experiments)=132 and 136 for HT29 SDCSC-Zc and HT29 SDCSCs-Z146a, respectively. The p-value is estimated by </a:t>
            </a:r>
            <a:r>
              <a:rPr b="0" lang="zh-TW" sz="1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2 test. ***, p&lt;0.001 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 The percentage of Numb and PKH26 vesicles co-expression (CE) or inverse expression (IE) in Numb-restored-PKH(Dim) daughter cells undergoing asymmetric cell division. Data represent mean ± S.D. n=3 independent experiments. 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 RT-qPCR results for showing the expression of Wnt targets in HCT15 SDCSCs-Vec and HCT15 SDCSCs-Numb(FL). *, p&lt;0.05 **, p&lt;0.01 (Student’s t tes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30T13:35:00Z</dcterms:created>
  <dc:creator>WL</dc:creator>
  <dc:description/>
  <dc:language>en-US</dc:language>
  <cp:lastModifiedBy>WL</cp:lastModifiedBy>
  <dcterms:modified xsi:type="dcterms:W3CDTF">2016-07-20T13:37:09Z</dcterms:modified>
  <cp:revision>289</cp:revision>
  <dc:subject/>
  <dc:title>投影片 1</dc:title>
</cp:coreProperties>
</file>