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70D-2FC9-4DAD-8907-749674F8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33B-D237-4097-96E3-8C52B7D3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1D2-CBE1-4A46-82E3-B1E7D63A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81F-7351-4A1F-B114-486E5D2B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11E-C59E-430C-B409-06A9F8A6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24D-69A4-4E3D-A442-38A25717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3B7-CA41-4F6F-95A8-2110063C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3D5-0465-445E-9D6F-992BB6AC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0600"/>
            <a:ext cx="823104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D50-B065-4B65-93DE-9717A095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B31-4ACA-4D96-9198-E84B7545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7F3-EC77-4C97-9AB9-84914F7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574-0B1D-496B-A5FD-F9D3EB71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850240"/>
            <a:ext cx="2133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8850240"/>
            <a:ext cx="28940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8850240"/>
            <a:ext cx="21333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DACF-3C7D-4355-8AA5-D243EABCAD6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50800" y="181080"/>
          <a:ext cx="1033560" cy="15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81080"/>
                    <a:ext cx="10335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50800" y="1816200"/>
          <a:ext cx="1033560" cy="14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816200"/>
                    <a:ext cx="103356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90160" y="1746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02760" y="1701720"/>
            <a:ext cx="30888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498960" y="91116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70160" y="241020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3440" y="16812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600" y="-3492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187880" y="181080"/>
          <a:ext cx="1033560" cy="15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7880" y="181080"/>
                    <a:ext cx="10335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911040" y="196920"/>
            <a:ext cx="372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7440" y="167472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98480" y="16812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T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187880" y="1687680"/>
          <a:ext cx="1033560" cy="15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87880" y="1687680"/>
                    <a:ext cx="10335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974760" y="1625760"/>
            <a:ext cx="308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87320" y="167472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T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1233360" y="3440520"/>
            <a:ext cx="87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ental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645920" y="3332520"/>
            <a:ext cx="63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05040" y="346068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952800" y="3446280"/>
            <a:ext cx="87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ental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365360" y="3338640"/>
            <a:ext cx="63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525920" y="346068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36320" y="324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4160" y="4140360"/>
            <a:ext cx="30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65840" y="181080"/>
          <a:ext cx="1551240" cy="158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65840" y="181080"/>
                    <a:ext cx="15512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479640" y="1746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765840" y="1708200"/>
          <a:ext cx="1551240" cy="15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65840" y="1708200"/>
                    <a:ext cx="15512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527160" y="1646280"/>
            <a:ext cx="3088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5847480" y="89352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818680" y="241308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84"/>
          <p:cNvSpPr/>
          <p:nvPr/>
        </p:nvSpPr>
        <p:spPr>
          <a:xfrm>
            <a:off x="5627520" y="3132000"/>
            <a:ext cx="13208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FLAG-Numb(162-4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Numb(F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-cat (m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931080" y="3205080"/>
          <a:ext cx="1241280" cy="907920"/>
        </p:xfrm>
        <a:graphic>
          <a:graphicData uri="http://schemas.openxmlformats.org/drawingml/2006/table">
            <a:tbl>
              <a:tblPr/>
              <a:tblGrid>
                <a:gridCol w="311040"/>
                <a:gridCol w="306360"/>
                <a:gridCol w="311400"/>
                <a:gridCol w="31248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284"/>
          <p:cNvSpPr/>
          <p:nvPr/>
        </p:nvSpPr>
        <p:spPr>
          <a:xfrm>
            <a:off x="3530160" y="7229520"/>
            <a:ext cx="7660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146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uro-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uro-Nu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248000" y="7296120"/>
          <a:ext cx="1225440" cy="957240"/>
        </p:xfrm>
        <a:graphic>
          <a:graphicData uri="http://schemas.openxmlformats.org/drawingml/2006/table">
            <a:tbl>
              <a:tblPr/>
              <a:tblGrid>
                <a:gridCol w="308160"/>
                <a:gridCol w="306360"/>
                <a:gridCol w="303120"/>
                <a:gridCol w="3078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7021080" y="16812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080" y="16956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17600" y="4262400"/>
          <a:ext cx="1550880" cy="158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17600" y="426240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055160" y="42624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17600" y="5789520"/>
          <a:ext cx="1550880" cy="158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17600" y="578952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1284"/>
          <p:cNvSpPr/>
          <p:nvPr/>
        </p:nvSpPr>
        <p:spPr>
          <a:xfrm>
            <a:off x="252360" y="7308720"/>
            <a:ext cx="13208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FLAG-Numb(162-4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Numb(F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-cat (m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55920" y="7367760"/>
          <a:ext cx="1241280" cy="907920"/>
        </p:xfrm>
        <a:graphic>
          <a:graphicData uri="http://schemas.openxmlformats.org/drawingml/2006/table">
            <a:tbl>
              <a:tblPr/>
              <a:tblGrid>
                <a:gridCol w="311040"/>
                <a:gridCol w="306360"/>
                <a:gridCol w="311400"/>
                <a:gridCol w="31248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1118520" y="5803920"/>
            <a:ext cx="30888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365760" y="495288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336960" y="647244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74280" y="4249800"/>
            <a:ext cx="10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74280" y="5776920"/>
            <a:ext cx="10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221640" y="87120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3192840" y="237024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4160" y="-3492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440" y="414036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033800" y="4278240"/>
          <a:ext cx="1550880" cy="158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3800" y="427824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745800" y="42768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067280" y="5789520"/>
          <a:ext cx="1550880" cy="158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67280" y="578952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18880" y="5816520"/>
            <a:ext cx="30888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3054960" y="498924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026160" y="656604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38160" y="426420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38160" y="577692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5885280" y="498924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858280" y="658044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-Asymmetry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84"/>
          <p:cNvSpPr/>
          <p:nvPr/>
        </p:nvSpPr>
        <p:spPr>
          <a:xfrm>
            <a:off x="6230520" y="7229520"/>
            <a:ext cx="7660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146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uro-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uro-Nu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948360" y="7296120"/>
          <a:ext cx="1223640" cy="957240"/>
        </p:xfrm>
        <a:graphic>
          <a:graphicData uri="http://schemas.openxmlformats.org/drawingml/2006/table">
            <a:tbl>
              <a:tblPr/>
              <a:tblGrid>
                <a:gridCol w="307440"/>
                <a:gridCol w="306000"/>
                <a:gridCol w="303120"/>
                <a:gridCol w="30708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5799240" y="4140360"/>
            <a:ext cx="296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93800" y="431640"/>
            <a:ext cx="216000" cy="71640"/>
            <a:chOff x="1693800" y="431640"/>
            <a:chExt cx="216000" cy="71640"/>
          </a:xfrm>
        </p:grpSpPr>
        <p:sp>
          <p:nvSpPr>
            <p:cNvPr id="114" name=""/>
            <p:cNvSpPr/>
            <p:nvPr/>
          </p:nvSpPr>
          <p:spPr>
            <a:xfrm>
              <a:off x="1693800" y="468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9380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800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81080" y="431640"/>
            <a:ext cx="216000" cy="71640"/>
            <a:chOff x="1981080" y="431640"/>
            <a:chExt cx="216000" cy="71640"/>
          </a:xfrm>
        </p:grpSpPr>
        <p:sp>
          <p:nvSpPr>
            <p:cNvPr id="118" name=""/>
            <p:cNvSpPr/>
            <p:nvPr/>
          </p:nvSpPr>
          <p:spPr>
            <a:xfrm>
              <a:off x="1981080" y="468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528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93800" y="1946160"/>
            <a:ext cx="503280" cy="71280"/>
            <a:chOff x="1693800" y="1946160"/>
            <a:chExt cx="503280" cy="71280"/>
          </a:xfrm>
        </p:grpSpPr>
        <p:grpSp>
          <p:nvGrpSpPr>
            <p:cNvPr id="122" name=""/>
            <p:cNvGrpSpPr/>
            <p:nvPr/>
          </p:nvGrpSpPr>
          <p:grpSpPr>
            <a:xfrm>
              <a:off x="1693800" y="1946160"/>
              <a:ext cx="216000" cy="71280"/>
              <a:chOff x="1693800" y="1946160"/>
              <a:chExt cx="216000" cy="71280"/>
            </a:xfrm>
          </p:grpSpPr>
          <p:sp>
            <p:nvSpPr>
              <p:cNvPr id="123" name=""/>
              <p:cNvSpPr/>
              <p:nvPr/>
            </p:nvSpPr>
            <p:spPr>
              <a:xfrm>
                <a:off x="1693800" y="19825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93800" y="19461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8000" y="19461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981080" y="1946160"/>
              <a:ext cx="216000" cy="71280"/>
              <a:chOff x="1981080" y="1946160"/>
              <a:chExt cx="216000" cy="71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981080" y="19825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19461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195280" y="19461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429080" y="1903320"/>
            <a:ext cx="216000" cy="71640"/>
            <a:chOff x="4429080" y="1903320"/>
            <a:chExt cx="216000" cy="71640"/>
          </a:xfrm>
        </p:grpSpPr>
        <p:sp>
          <p:nvSpPr>
            <p:cNvPr id="131" name=""/>
            <p:cNvSpPr/>
            <p:nvPr/>
          </p:nvSpPr>
          <p:spPr>
            <a:xfrm>
              <a:off x="4429080" y="19400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9080" y="19033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43280" y="19033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732200" y="1903320"/>
            <a:ext cx="216000" cy="71640"/>
            <a:chOff x="4732200" y="1903320"/>
            <a:chExt cx="216000" cy="71640"/>
          </a:xfrm>
        </p:grpSpPr>
        <p:sp>
          <p:nvSpPr>
            <p:cNvPr id="135" name=""/>
            <p:cNvSpPr/>
            <p:nvPr/>
          </p:nvSpPr>
          <p:spPr>
            <a:xfrm>
              <a:off x="4732200" y="19400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32200" y="19033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6400" y="19033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429080" y="468360"/>
            <a:ext cx="216000" cy="71280"/>
            <a:chOff x="4429080" y="468360"/>
            <a:chExt cx="216000" cy="71280"/>
          </a:xfrm>
        </p:grpSpPr>
        <p:sp>
          <p:nvSpPr>
            <p:cNvPr id="139" name=""/>
            <p:cNvSpPr/>
            <p:nvPr/>
          </p:nvSpPr>
          <p:spPr>
            <a:xfrm>
              <a:off x="4429080" y="504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9080" y="468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3280" y="468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716360" y="468360"/>
            <a:ext cx="216000" cy="71280"/>
            <a:chOff x="4716360" y="468360"/>
            <a:chExt cx="216000" cy="71280"/>
          </a:xfrm>
        </p:grpSpPr>
        <p:sp>
          <p:nvSpPr>
            <p:cNvPr id="143" name=""/>
            <p:cNvSpPr/>
            <p:nvPr/>
          </p:nvSpPr>
          <p:spPr>
            <a:xfrm>
              <a:off x="4716360" y="504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16360" y="468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30560" y="468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107120" y="431640"/>
            <a:ext cx="863280" cy="71640"/>
            <a:chOff x="7107120" y="431640"/>
            <a:chExt cx="863280" cy="71640"/>
          </a:xfrm>
        </p:grpSpPr>
        <p:sp>
          <p:nvSpPr>
            <p:cNvPr id="147" name=""/>
            <p:cNvSpPr/>
            <p:nvPr/>
          </p:nvSpPr>
          <p:spPr>
            <a:xfrm>
              <a:off x="7107120" y="46836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0712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4676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83120" y="468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7040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83120" y="431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107120" y="1946160"/>
            <a:ext cx="863280" cy="71640"/>
            <a:chOff x="7107120" y="1946160"/>
            <a:chExt cx="863280" cy="71640"/>
          </a:xfrm>
        </p:grpSpPr>
        <p:sp>
          <p:nvSpPr>
            <p:cNvPr id="154" name=""/>
            <p:cNvSpPr/>
            <p:nvPr/>
          </p:nvSpPr>
          <p:spPr>
            <a:xfrm>
              <a:off x="7107120" y="19828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07120" y="19461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46760" y="19461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83120" y="19828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70400" y="19461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3120" y="19461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58880" y="4549680"/>
            <a:ext cx="863280" cy="71640"/>
            <a:chOff x="1658880" y="4549680"/>
            <a:chExt cx="863280" cy="71640"/>
          </a:xfrm>
        </p:grpSpPr>
        <p:sp>
          <p:nvSpPr>
            <p:cNvPr id="161" name=""/>
            <p:cNvSpPr/>
            <p:nvPr/>
          </p:nvSpPr>
          <p:spPr>
            <a:xfrm>
              <a:off x="1658880" y="45864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8880" y="4549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8520" y="4549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34880" y="45864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2160" y="4549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34880" y="4549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658880" y="6062760"/>
            <a:ext cx="863280" cy="71280"/>
            <a:chOff x="1658880" y="6062760"/>
            <a:chExt cx="863280" cy="71280"/>
          </a:xfrm>
        </p:grpSpPr>
        <p:sp>
          <p:nvSpPr>
            <p:cNvPr id="168" name=""/>
            <p:cNvSpPr/>
            <p:nvPr/>
          </p:nvSpPr>
          <p:spPr>
            <a:xfrm>
              <a:off x="1658880" y="60991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58880" y="6062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98520" y="6062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34880" y="6099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2160" y="6062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34880" y="6062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321080" y="456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1080" y="45291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10160" y="45291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950000" y="4529160"/>
            <a:ext cx="288720" cy="71280"/>
            <a:chOff x="4950000" y="4529160"/>
            <a:chExt cx="288720" cy="71280"/>
          </a:xfrm>
        </p:grpSpPr>
        <p:sp>
          <p:nvSpPr>
            <p:cNvPr id="178" name=""/>
            <p:cNvSpPr/>
            <p:nvPr/>
          </p:nvSpPr>
          <p:spPr>
            <a:xfrm>
              <a:off x="4950000" y="45655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0000" y="4529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38720" y="4529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57800" y="6113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7800" y="6076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6520" y="6076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986360" y="6076800"/>
            <a:ext cx="288720" cy="71280"/>
            <a:chOff x="4986360" y="6076800"/>
            <a:chExt cx="288720" cy="71280"/>
          </a:xfrm>
        </p:grpSpPr>
        <p:sp>
          <p:nvSpPr>
            <p:cNvPr id="185" name=""/>
            <p:cNvSpPr/>
            <p:nvPr/>
          </p:nvSpPr>
          <p:spPr>
            <a:xfrm>
              <a:off x="4986360" y="61131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86360" y="607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5080" y="607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83000" y="324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0280" y="324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5600" y="18367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0280" y="18367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7120" y="35892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92720" y="189540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9960" y="3589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9960" y="1908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9240" y="324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29920" y="32400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70880" y="18525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9240" y="18525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1120" y="4429080"/>
            <a:ext cx="3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1120" y="5934240"/>
            <a:ext cx="3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22640" y="442260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22640" y="593424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94800" y="4421160"/>
            <a:ext cx="3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38720" y="5946840"/>
            <a:ext cx="3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70520" y="44211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31000" y="594684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05440" y="4276800"/>
          <a:ext cx="1551240" cy="158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05440" y="4276800"/>
                    <a:ext cx="15512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6543000" y="4276800"/>
            <a:ext cx="372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772320" y="5789520"/>
          <a:ext cx="1550880" cy="1582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72320" y="5789520"/>
                    <a:ext cx="1550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6557400" y="5875200"/>
            <a:ext cx="308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5280" y="426420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T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5280" y="577692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T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9600" y="60418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59600" y="6005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48680" y="6005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670880" y="6005520"/>
            <a:ext cx="288720" cy="71280"/>
            <a:chOff x="7670880" y="6005520"/>
            <a:chExt cx="288720" cy="71280"/>
          </a:xfrm>
        </p:grpSpPr>
        <p:sp>
          <p:nvSpPr>
            <p:cNvPr id="220" name=""/>
            <p:cNvSpPr/>
            <p:nvPr/>
          </p:nvSpPr>
          <p:spPr>
            <a:xfrm>
              <a:off x="7670880" y="60418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70880" y="600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59600" y="600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10360" y="4565520"/>
            <a:ext cx="288720" cy="71280"/>
            <a:chOff x="7110360" y="4565520"/>
            <a:chExt cx="288720" cy="71280"/>
          </a:xfrm>
        </p:grpSpPr>
        <p:sp>
          <p:nvSpPr>
            <p:cNvPr id="224" name=""/>
            <p:cNvSpPr/>
            <p:nvPr/>
          </p:nvSpPr>
          <p:spPr>
            <a:xfrm>
              <a:off x="7110360" y="46018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10360" y="456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080" y="456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707240" y="4565520"/>
            <a:ext cx="288720" cy="71280"/>
            <a:chOff x="7707240" y="4565520"/>
            <a:chExt cx="288720" cy="71280"/>
          </a:xfrm>
        </p:grpSpPr>
        <p:sp>
          <p:nvSpPr>
            <p:cNvPr id="228" name=""/>
            <p:cNvSpPr/>
            <p:nvPr/>
          </p:nvSpPr>
          <p:spPr>
            <a:xfrm>
              <a:off x="7707240" y="46018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07240" y="456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95960" y="4565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132680" y="44355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21880" y="59929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96440" y="600552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31360" y="44355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360" y="8461080"/>
            <a:ext cx="900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upplementary Figure 4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ymmetric and asymmetric segregation of PKH26 vesicles in colorectal cell lin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-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percentage of the asymmetry/symmetry of PKH26 vesicles in parental cells, SDCSCs and serum-differentiated SDCSCs (Differentiation) in HT29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and HCT15 cells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. Data represent mean ± S.D. *, p&lt;0.05 **, p&lt;0.01 (Student’s t test)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C-D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Histograms for showing percentages of PKH26 vesicle asymmetry/symmetry at the indicated stable cell lines of HT29 SDCSCs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and HCT15 SDCSCs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. *, p&lt;0.05; **, p&lt;0.01; ***, p&lt;0.001 (Student’s t test)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E-F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Histograms for showing percentages of PKH26 vesicle asymmetry/symmetry at indicated stable cell lines from HT29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and HCT15 parental cells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*, p&lt;0.05; ***, p&lt;0.001 (Student’s t tes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3:35:00Z</dcterms:created>
  <dc:creator>WL</dc:creator>
  <dc:description/>
  <dc:language>en-US</dc:language>
  <cp:lastModifiedBy>WL</cp:lastModifiedBy>
  <dcterms:modified xsi:type="dcterms:W3CDTF">2016-07-20T13:36:56Z</dcterms:modified>
  <cp:revision>320</cp:revision>
  <dc:subject/>
  <dc:title>投影片 1</dc:title>
</cp:coreProperties>
</file>