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5B45-F824-4F8A-A5A6-CC85109C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253F-D267-45DE-B643-4A14B2AC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AE15-5DB9-4F38-9493-335B08E9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5B6E-C34E-4D97-9AF1-A4F9D6B5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1FE-22F4-4BE5-B15D-F5DEDDCD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C93-93BD-4915-8C4C-303FACAE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B29-DFDF-4E48-A7FF-59362778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E98-E8D1-42D5-96CC-26BF8802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AFAF-4132-4FE3-865F-6DB2CC20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0312-432F-4729-B029-9D357B30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E191-4E16-4A62-984F-C0303CA2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A581-5660-469A-B8DC-0DAE0E50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F894-62FE-4733-AF13-2DE3A4605C8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62"/>
          <p:cNvSpPr/>
          <p:nvPr/>
        </p:nvSpPr>
        <p:spPr>
          <a:xfrm>
            <a:off x="324000" y="1159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HelveticaCondensed"/>
              </a:rPr>
              <a:t>Supplementary information, Figure S3. (Pérez-Palacios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4"/>
          <p:cNvGrpSpPr/>
          <p:nvPr/>
        </p:nvGrpSpPr>
        <p:grpSpPr>
          <a:xfrm>
            <a:off x="1060560" y="765000"/>
            <a:ext cx="6607080" cy="3625920"/>
            <a:chOff x="1060560" y="765000"/>
            <a:chExt cx="6607080" cy="3625920"/>
          </a:xfrm>
        </p:grpSpPr>
        <p:pic>
          <p:nvPicPr>
            <p:cNvPr id="43" name="Imagen 1" descr=""/>
            <p:cNvPicPr/>
            <p:nvPr/>
          </p:nvPicPr>
          <p:blipFill>
            <a:blip r:embed="rId1"/>
            <a:stretch/>
          </p:blipFill>
          <p:spPr>
            <a:xfrm>
              <a:off x="1908000" y="765000"/>
              <a:ext cx="4824720" cy="36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12"/>
            <p:cNvSpPr/>
            <p:nvPr/>
          </p:nvSpPr>
          <p:spPr>
            <a:xfrm>
              <a:off x="2319480" y="809640"/>
              <a:ext cx="443700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a    b     c    d     e     f    g</a:t>
              </a: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13"/>
            <p:cNvSpPr/>
            <p:nvPr/>
          </p:nvSpPr>
          <p:spPr>
            <a:xfrm flipH="1">
              <a:off x="6230880" y="2725560"/>
              <a:ext cx="517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4"/>
            <p:cNvSpPr/>
            <p:nvPr/>
          </p:nvSpPr>
          <p:spPr>
            <a:xfrm>
              <a:off x="6710400" y="2568600"/>
              <a:ext cx="9572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HelveticaCondensed"/>
                </a:rPr>
                <a:t>315 b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15"/>
            <p:cNvSpPr/>
            <p:nvPr/>
          </p:nvSpPr>
          <p:spPr>
            <a:xfrm>
              <a:off x="1795320" y="2492280"/>
              <a:ext cx="615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16"/>
            <p:cNvSpPr/>
            <p:nvPr/>
          </p:nvSpPr>
          <p:spPr>
            <a:xfrm>
              <a:off x="1060560" y="2317680"/>
              <a:ext cx="14364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HelveticaCondensed"/>
                </a:rPr>
                <a:t>554 b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9 CuadroTexto"/>
          <p:cNvSpPr/>
          <p:nvPr/>
        </p:nvSpPr>
        <p:spPr>
          <a:xfrm>
            <a:off x="324000" y="4437000"/>
            <a:ext cx="842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upp. Inf. Figure S3. Confirmation by PCR of the insertion of the gene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rolC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554 pb)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nd the gene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opC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315 pb). a) Molecular size markers. Amplification of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rolC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gene of HR1 (b), CuHR-3 (c) and CuHR-V-5 (d). Amplification of the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opC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gene  in HR1 (e), CuHR-3 (f) and CuHR-V-5 (g). h) control without D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9:51:52Z</dcterms:created>
  <dc:creator>usuario</dc:creator>
  <dc:description/>
  <dc:language>en-US</dc:language>
  <cp:lastModifiedBy>usuario</cp:lastModifiedBy>
  <dcterms:modified xsi:type="dcterms:W3CDTF">2015-04-16T11:22:44Z</dcterms:modified>
  <cp:revision>6</cp:revision>
  <dc:subject/>
  <dc:title>Diapositiva 1</dc:title>
</cp:coreProperties>
</file>